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13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Times New Roman"/>
              </a:rPr>
              <a:t>Meiosis and Sexual </a:t>
            </a:r>
            <a:br>
              <a:rPr sz="5500"/>
            </a:br>
            <a:r>
              <a:rPr b="1" lang="en-US" sz="5500" spc="-1" strike="noStrike">
                <a:solidFill>
                  <a:srgbClr val="993366"/>
                </a:solidFill>
                <a:latin typeface="Times New Roman"/>
              </a:rPr>
              <a:t>Life Cycles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3.2: Fertilization and meiosis alternate in sexual life cy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fe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generation-to-generation sequence of stages in the reproductive history of an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ts of Chromosomes in Human Cell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um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omatic cell has 46 chromosomes, made up of two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et of chromosomes comes from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2712600" y="2527200"/>
            <a:ext cx="3459600" cy="3958200"/>
            <a:chOff x="2712600" y="2527200"/>
            <a:chExt cx="3459600" cy="3958200"/>
          </a:xfrm>
        </p:grpSpPr>
        <p:grpSp>
          <p:nvGrpSpPr>
            <p:cNvPr id="205" name=""/>
            <p:cNvGrpSpPr/>
            <p:nvPr/>
          </p:nvGrpSpPr>
          <p:grpSpPr>
            <a:xfrm>
              <a:off x="2970360" y="2527200"/>
              <a:ext cx="3201840" cy="3886200"/>
              <a:chOff x="2970360" y="2527200"/>
              <a:chExt cx="3201840" cy="38862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84720" y="2527200"/>
                <a:ext cx="2787480" cy="38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5432760" y="4276440"/>
                <a:ext cx="448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µ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23960" y="4158360"/>
                <a:ext cx="1175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air of homologou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42600">
                <a:off x="3943800" y="4575240"/>
                <a:ext cx="50760" cy="150840"/>
              </a:xfrm>
              <a:custGeom>
                <a:avLst/>
                <a:gdLst>
                  <a:gd name="textAreaLeft" fmla="*/ 0 w 50760"/>
                  <a:gd name="textAreaRight" fmla="*/ 18360 w 50760"/>
                  <a:gd name="textAreaTop" fmla="*/ 3600 h 150840"/>
                  <a:gd name="textAreaBottom" fmla="*/ 147240 h 15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42600">
                <a:off x="3697200" y="4576320"/>
                <a:ext cx="50760" cy="149040"/>
              </a:xfrm>
              <a:custGeom>
                <a:avLst/>
                <a:gdLst>
                  <a:gd name="textAreaLeft" fmla="*/ 0 w 50760"/>
                  <a:gd name="textAreaRight" fmla="*/ 18360 w 50760"/>
                  <a:gd name="textAreaTop" fmla="*/ 3600 h 149040"/>
                  <a:gd name="textAreaBottom" fmla="*/ 145440 h 14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722400" y="4473720"/>
                <a:ext cx="88920" cy="15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376600">
                <a:off x="3920040" y="5088600"/>
                <a:ext cx="50760" cy="150840"/>
              </a:xfrm>
              <a:custGeom>
                <a:avLst/>
                <a:gdLst>
                  <a:gd name="textAreaLeft" fmla="*/ 0 w 50760"/>
                  <a:gd name="textAreaRight" fmla="*/ 18360 w 50760"/>
                  <a:gd name="textAreaTop" fmla="*/ 3600 h 150840"/>
                  <a:gd name="textAreaBottom" fmla="*/ 147240 h 15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3443040" y="4917960"/>
                <a:ext cx="338040" cy="1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70360" y="5041440"/>
                <a:ext cx="790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ntrome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782520" y="5191200"/>
                <a:ext cx="15732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12440" y="5393520"/>
                <a:ext cx="747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s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hromatid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07000" y="4467240"/>
                <a:ext cx="156960" cy="157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712600" y="61797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karyo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ordered, visual representation of the chromosomes in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two chromosomes composing a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sam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be called aut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x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istinct from each other in their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epresented as X and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ex of the individual, XX being female, XY being 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ploid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wo sets of each of its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human has 46 chromosomes (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cell in which DNA synthesis has occur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chromosomes are duplicated and thus each consists of two identical sister chromat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45920" y="2600280"/>
            <a:ext cx="4804200" cy="3724200"/>
            <a:chOff x="1645920" y="2600280"/>
            <a:chExt cx="4804200" cy="3724200"/>
          </a:xfrm>
        </p:grpSpPr>
        <p:sp>
          <p:nvSpPr>
            <p:cNvPr id="230" name=""/>
            <p:cNvSpPr/>
            <p:nvPr/>
          </p:nvSpPr>
          <p:spPr>
            <a:xfrm>
              <a:off x="1645920" y="59526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855880" y="2600280"/>
              <a:ext cx="3594240" cy="372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3490560" y="2671920"/>
            <a:ext cx="41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1520" y="3084480"/>
            <a:ext cx="1384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nal set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omosomes 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70360" y="3581280"/>
            <a:ext cx="1384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ernal set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omosomes 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120" y="3397320"/>
            <a:ext cx="538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4160880" y="4398480"/>
            <a:ext cx="395280" cy="56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06560" y="4229280"/>
            <a:ext cx="1416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sister chromat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one replic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689280" y="5448240"/>
            <a:ext cx="1487520" cy="3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3703320" y="5765400"/>
            <a:ext cx="1298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00080" y="5627520"/>
            <a:ext cx="1222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nons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omatid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homologous p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881000">
            <a:off x="5468400" y="5688000"/>
            <a:ext cx="76320" cy="477720"/>
          </a:xfrm>
          <a:custGeom>
            <a:avLst/>
            <a:gdLst>
              <a:gd name="textAreaLeft" fmla="*/ 0 w 76320"/>
              <a:gd name="textAreaRight" fmla="*/ 27360 w 76320"/>
              <a:gd name="textAreaTop" fmla="*/ 12240 h 477720"/>
              <a:gd name="textAreaBottom" fmla="*/ 46548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37600" y="5654520"/>
            <a:ext cx="1282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r of homolog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ne from each s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67360" y="4876920"/>
            <a:ext cx="619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21400" y="4749840"/>
            <a:ext cx="85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82920" y="3166920"/>
            <a:ext cx="52560" cy="689040"/>
          </a:xfrm>
          <a:custGeom>
            <a:avLst/>
            <a:gdLst>
              <a:gd name="textAreaLeft" fmla="*/ 33480 w 52560"/>
              <a:gd name="textAreaRight" fmla="*/ 52920 w 52560"/>
              <a:gd name="textAreaTop" fmla="*/ 17640 h 689040"/>
              <a:gd name="textAreaBottom" fmla="*/ 671400 h 68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52960" y="4387680"/>
            <a:ext cx="53028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541840" y="5784480"/>
            <a:ext cx="100836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 somatic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tes, sperm and egg cells are haploid cells, containing only one set of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Behavior of Chromosome Sets in the Human Life Cycle</a:t>
            </a:r>
            <a:endParaRPr b="1" lang="en-US" sz="2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sexual mat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varies and testes produce haploid gametes by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ing ferti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ametes, sperm and ovum, fuse, forming a diploid zyg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zyg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s into an adult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Hereditary Similarity and Var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ving org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istinguished by their ability to reproduce their own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2106000" y="1332000"/>
            <a:ext cx="4982400" cy="5170680"/>
            <a:chOff x="2106000" y="1332000"/>
            <a:chExt cx="4982400" cy="5170680"/>
          </a:xfrm>
        </p:grpSpPr>
        <p:sp>
          <p:nvSpPr>
            <p:cNvPr id="255" name=""/>
            <p:cNvSpPr/>
            <p:nvPr/>
          </p:nvSpPr>
          <p:spPr>
            <a:xfrm>
              <a:off x="2106000" y="61686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832120" y="1332000"/>
              <a:ext cx="4256280" cy="5170680"/>
              <a:chOff x="2832120" y="1332000"/>
              <a:chExt cx="4256280" cy="517068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2832120" y="1332000"/>
                <a:ext cx="4256280" cy="4787640"/>
                <a:chOff x="2832120" y="1332000"/>
                <a:chExt cx="4256280" cy="4787640"/>
              </a:xfrm>
            </p:grpSpPr>
            <p:pic>
              <p:nvPicPr>
                <p:cNvPr id="25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32120" y="1332000"/>
                  <a:ext cx="3699000" cy="478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>
                  <a:off x="3083760" y="1341000"/>
                  <a:ext cx="511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Ke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68560" y="1677960"/>
                  <a:ext cx="93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aploid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960640" y="1892160"/>
                  <a:ext cx="9655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ploid (2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981960" y="1496880"/>
                  <a:ext cx="1905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aploid gametes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= 2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099760" y="1793880"/>
                  <a:ext cx="82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vum 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24920" y="2730600"/>
                  <a:ext cx="6757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pe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ll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114000" y="3351240"/>
                  <a:ext cx="822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IO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89120" y="3344760"/>
                  <a:ext cx="132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ERTILIZ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533040" y="4254480"/>
                  <a:ext cx="591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va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772880" y="4300560"/>
                  <a:ext cx="591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est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287760" y="4253040"/>
                  <a:ext cx="80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plo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zygo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2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= 46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048280" y="5349960"/>
                  <a:ext cx="1126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itosis 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velop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412800" y="6045120"/>
                <a:ext cx="1474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ulticellular diplo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ults (2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= 46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uman life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Variety of Sexual Life Cycl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hree main types of sexual life cy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 in the timing of meiosis and fert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i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iosis occurs during gamet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tes are the only haploi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017880" y="2666880"/>
            <a:ext cx="2757600" cy="328140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1310400" y="2728800"/>
            <a:ext cx="4408200" cy="3686760"/>
            <a:chOff x="1310400" y="2728800"/>
            <a:chExt cx="4408200" cy="3686760"/>
          </a:xfrm>
        </p:grpSpPr>
        <p:sp>
          <p:nvSpPr>
            <p:cNvPr id="280" name=""/>
            <p:cNvSpPr/>
            <p:nvPr/>
          </p:nvSpPr>
          <p:spPr>
            <a:xfrm>
              <a:off x="3916080" y="367344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me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310400" y="2728800"/>
              <a:ext cx="4408200" cy="3686760"/>
              <a:chOff x="1310400" y="2728800"/>
              <a:chExt cx="4408200" cy="3686760"/>
            </a:xfrm>
          </p:grpSpPr>
          <p:sp>
            <p:nvSpPr>
              <p:cNvPr id="282" name=""/>
              <p:cNvSpPr/>
              <p:nvPr/>
            </p:nvSpPr>
            <p:spPr>
              <a:xfrm>
                <a:off x="1310400" y="6109920"/>
                <a:ext cx="1305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13.6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8320" y="5638680"/>
                <a:ext cx="9896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plo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ulticellu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ganis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279600" y="2728800"/>
                <a:ext cx="465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28120" y="4424400"/>
                <a:ext cx="822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EIO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90560" y="4435560"/>
                <a:ext cx="132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ERTILIZ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67800" y="35892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177440" y="39607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53600" y="3576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22920" y="5254560"/>
                <a:ext cx="355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2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16400" y="5278320"/>
                <a:ext cx="355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2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87600" y="5137200"/>
                <a:ext cx="653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Zygo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167280" y="2995560"/>
                <a:ext cx="703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aplo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89960" y="3208320"/>
                <a:ext cx="651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plo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591800" y="5688000"/>
                <a:ext cx="71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ito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32480" y="611172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 Anima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396080" y="1828800"/>
            <a:ext cx="5592240" cy="4663080"/>
            <a:chOff x="1396080" y="1828800"/>
            <a:chExt cx="5592240" cy="466308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3200400" y="1828800"/>
              <a:ext cx="37879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469680" y="4767120"/>
              <a:ext cx="822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I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52560" y="4767120"/>
              <a:ext cx="1328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ERTI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80400" y="3795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12200" y="38926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7440" y="35053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26800" y="38862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26800" y="3762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61120" y="5573520"/>
              <a:ext cx="35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79880" y="5468760"/>
              <a:ext cx="35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61680" y="2895480"/>
              <a:ext cx="1841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ploid multicel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ganism (gametophy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14120" y="3552840"/>
              <a:ext cx="71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t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28600" y="3567240"/>
              <a:ext cx="71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t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85800" y="4114800"/>
              <a:ext cx="66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0080" y="430056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me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04800" y="5973840"/>
              <a:ext cx="71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t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68640" y="56833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yg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68920" y="5362560"/>
              <a:ext cx="10429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plo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cel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gani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porophy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69280" y="6180120"/>
              <a:ext cx="20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Plants and some alga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96080" y="6186240"/>
              <a:ext cx="1305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6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s and some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 an alternation of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fe cycle includes both diploid and haploid multicellular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1823040" y="2657520"/>
            <a:ext cx="4257000" cy="3848040"/>
            <a:chOff x="1823040" y="2657520"/>
            <a:chExt cx="4257000" cy="3848040"/>
          </a:xfrm>
        </p:grpSpPr>
        <p:grpSp>
          <p:nvGrpSpPr>
            <p:cNvPr id="321" name=""/>
            <p:cNvGrpSpPr/>
            <p:nvPr/>
          </p:nvGrpSpPr>
          <p:grpSpPr>
            <a:xfrm>
              <a:off x="3200400" y="2657520"/>
              <a:ext cx="2879640" cy="3848040"/>
              <a:chOff x="3200400" y="2657520"/>
              <a:chExt cx="2879640" cy="384804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2657520"/>
                <a:ext cx="2879640" cy="35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3384000" y="5373720"/>
                <a:ext cx="822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EIO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32560" y="5387760"/>
                <a:ext cx="132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ERTILIZ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27760" y="45277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26440" y="433836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21600" y="39967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68960" y="447336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04280" y="47653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3640" y="5833440"/>
                <a:ext cx="355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2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64600" y="3501720"/>
                <a:ext cx="15505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aploid multicellu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ganis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08760" y="4101480"/>
                <a:ext cx="71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ito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3200" y="4105080"/>
                <a:ext cx="71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ito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45000" y="4805280"/>
                <a:ext cx="805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ame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54400" y="6072120"/>
                <a:ext cx="653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Zygo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348720" y="6230520"/>
                <a:ext cx="2541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c) Most fungi and some protis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823040" y="6186240"/>
              <a:ext cx="1305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6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ost fungi and some prot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iosis produces haploid cells that give rise to a haploid multicellular adult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ploid adult carries out mitosis, producing cells that will become gam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3.3: Meiosis reduces the number of chromosome sets from diploid to hapl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place in two sets of divisions, meiosis I and meiosi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tages of Meio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overview of meio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144240" y="782280"/>
            <a:ext cx="5313600" cy="5695200"/>
            <a:chOff x="3144240" y="782280"/>
            <a:chExt cx="5313600" cy="5695200"/>
          </a:xfrm>
        </p:grpSpPr>
        <p:sp>
          <p:nvSpPr>
            <p:cNvPr id="345" name=""/>
            <p:cNvSpPr/>
            <p:nvPr/>
          </p:nvSpPr>
          <p:spPr>
            <a:xfrm>
              <a:off x="3144240" y="61718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4343400" y="782280"/>
              <a:ext cx="4114440" cy="5618160"/>
              <a:chOff x="4343400" y="782280"/>
              <a:chExt cx="4114440" cy="5618160"/>
            </a:xfrm>
          </p:grpSpPr>
          <p:pic>
            <p:nvPicPr>
              <p:cNvPr id="3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43400" y="788760"/>
                <a:ext cx="4114440" cy="56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4452120" y="782280"/>
                <a:ext cx="700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Interpha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17440" y="950040"/>
                <a:ext cx="1087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mologous pai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 chromoso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 diploid parent ce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53520" y="2190960"/>
                <a:ext cx="848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plic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12760" y="2577240"/>
                <a:ext cx="22104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mologous pair of replicated chromoso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45280" y="3128760"/>
                <a:ext cx="685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st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romati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22360" y="3233880"/>
                <a:ext cx="1193760" cy="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32440" y="3243960"/>
                <a:ext cx="1290240" cy="15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289560" y="2752920"/>
                <a:ext cx="118080" cy="2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397920" y="2766240"/>
                <a:ext cx="118080" cy="22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978600" y="3230640"/>
                <a:ext cx="889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iploid cell wit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plicat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59000" y="4357800"/>
                <a:ext cx="241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59000" y="5356440"/>
                <a:ext cx="241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928120" y="4380480"/>
                <a:ext cx="76104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omologou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parat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21160" y="4777200"/>
                <a:ext cx="1297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aploid cells wit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plicated chromoso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45040" y="5382720"/>
                <a:ext cx="889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ster chromatid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parat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12040" y="6154920"/>
                <a:ext cx="22287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aploid cells with unreplicated chromoso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45280" y="3781800"/>
                <a:ext cx="6177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eiosis 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51040" y="5144400"/>
                <a:ext cx="6469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eiosis I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6192360" y="1390320"/>
                <a:ext cx="210240" cy="29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6391080" y="1390320"/>
                <a:ext cx="210240" cy="29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number of chromosomes from diploid to hap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four haploid daughte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77840" y="1384200"/>
            <a:ext cx="8312040" cy="5039280"/>
            <a:chOff x="177840" y="1384200"/>
            <a:chExt cx="8312040" cy="5039280"/>
          </a:xfrm>
        </p:grpSpPr>
        <p:grpSp>
          <p:nvGrpSpPr>
            <p:cNvPr id="371" name=""/>
            <p:cNvGrpSpPr/>
            <p:nvPr/>
          </p:nvGrpSpPr>
          <p:grpSpPr>
            <a:xfrm>
              <a:off x="177840" y="1384200"/>
              <a:ext cx="8312040" cy="5039280"/>
              <a:chOff x="177840" y="1384200"/>
              <a:chExt cx="8312040" cy="5039280"/>
            </a:xfrm>
          </p:grpSpPr>
          <p:pic>
            <p:nvPicPr>
              <p:cNvPr id="3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384200"/>
                <a:ext cx="8278920" cy="40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318600" y="2925720"/>
                <a:ext cx="15505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ntroso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with centriole pair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60400" y="3322800"/>
                <a:ext cx="201600" cy="56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58960" y="3333600"/>
                <a:ext cx="365040" cy="53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88480" y="3330720"/>
                <a:ext cx="931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is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romati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66840" y="3745080"/>
                <a:ext cx="347760" cy="48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66840" y="3738600"/>
                <a:ext cx="411120" cy="474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1400" y="3225600"/>
                <a:ext cx="91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iasm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952360" y="3460680"/>
                <a:ext cx="531720" cy="59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3213000" y="3451320"/>
                <a:ext cx="284400" cy="82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71800" y="3546360"/>
                <a:ext cx="695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pind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3693600" y="3749760"/>
                <a:ext cx="258840" cy="26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20884200">
                <a:off x="2733480" y="4762440"/>
                <a:ext cx="137880" cy="277920"/>
              </a:xfrm>
              <a:custGeom>
                <a:avLst/>
                <a:gdLst>
                  <a:gd name="textAreaLeft" fmla="*/ 88200 w 137880"/>
                  <a:gd name="textAreaRight" fmla="*/ 138240 w 137880"/>
                  <a:gd name="textAreaTop" fmla="*/ 7200 h 277920"/>
                  <a:gd name="textAreaBottom" fmla="*/ 270720 h 27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79680" y="521820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tr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635200" y="4917960"/>
                <a:ext cx="9216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1455480" y="5016240"/>
                <a:ext cx="415800" cy="9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799280" y="4951440"/>
                <a:ext cx="806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cl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vel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09560" y="4780080"/>
                <a:ext cx="486000" cy="62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9680" y="5322960"/>
                <a:ext cx="889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romat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4560840" y="3281040"/>
                <a:ext cx="52560" cy="111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17320" y="2886120"/>
                <a:ext cx="1390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entrome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with kinetocho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4536720" y="4640400"/>
                <a:ext cx="127080" cy="5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30200" y="5079960"/>
                <a:ext cx="9759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crotubu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tached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inetoch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33280" y="5599080"/>
                <a:ext cx="1271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rtads line u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5890680" y="3686040"/>
                <a:ext cx="86040" cy="746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19320" y="3284640"/>
                <a:ext cx="9424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ta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145200" y="4178160"/>
                <a:ext cx="457200" cy="97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6138720" y="4692600"/>
                <a:ext cx="38736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615640" y="5033880"/>
                <a:ext cx="11437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mologo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par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88280" y="3246480"/>
                <a:ext cx="104760" cy="74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77440" y="2851200"/>
                <a:ext cx="1364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ister chromati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main attach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75840" y="5557680"/>
                <a:ext cx="18140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airs of homologo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hromosomes split u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5520" y="5573520"/>
                <a:ext cx="196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hromosomes duplic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79120" y="5783400"/>
                <a:ext cx="25794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mologous chromoso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red and blue) pair and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gments; 2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= 6 in this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363600" y="1488960"/>
              <a:ext cx="1168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R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3080" y="1485720"/>
              <a:ext cx="3775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EIOSIS I: Separates homologous chro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46640" y="1967040"/>
              <a:ext cx="112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PHASE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47080" y="1968480"/>
              <a:ext cx="1227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ETAPHASE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2400" y="1974960"/>
              <a:ext cx="112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APHASE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hase and meiosis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1320" y="601956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3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-5400" y="1295280"/>
            <a:ext cx="8595360" cy="5144040"/>
            <a:chOff x="-5400" y="1295280"/>
            <a:chExt cx="8595360" cy="5144040"/>
          </a:xfrm>
        </p:grpSpPr>
        <p:grpSp>
          <p:nvGrpSpPr>
            <p:cNvPr id="415" name=""/>
            <p:cNvGrpSpPr/>
            <p:nvPr/>
          </p:nvGrpSpPr>
          <p:grpSpPr>
            <a:xfrm>
              <a:off x="367560" y="1295280"/>
              <a:ext cx="8222400" cy="5112000"/>
              <a:chOff x="367560" y="1295280"/>
              <a:chExt cx="8222400" cy="5112000"/>
            </a:xfrm>
          </p:grpSpPr>
          <p:pic>
            <p:nvPicPr>
              <p:cNvPr id="4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1520" y="1295280"/>
                <a:ext cx="8218440" cy="478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367560" y="1781280"/>
                <a:ext cx="15750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ELOPHASE I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TOKIN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68720" y="1830240"/>
                <a:ext cx="1169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PHASE I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88640" y="1820880"/>
                <a:ext cx="1270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ETAPHASE I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94320" y="1828800"/>
                <a:ext cx="1168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NAPHASE I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28840" y="1773360"/>
                <a:ext cx="16174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ELOPHASE II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TOKIN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58600" y="1420560"/>
                <a:ext cx="35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EIOSIS II: Separates sister chromati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781280" y="4103640"/>
                <a:ext cx="957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71560" y="3975120"/>
                <a:ext cx="7185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leava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urro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803560" y="4543560"/>
                <a:ext cx="230040" cy="46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016680" y="4533840"/>
                <a:ext cx="266760" cy="49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84760" y="4137120"/>
                <a:ext cx="1162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ister chromati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para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037280" y="3986280"/>
                <a:ext cx="14331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ploid daughter cell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orm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264120" y="6000840"/>
                <a:ext cx="4750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uring another round of cell division, the sister chromatids finally separate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our haploid daughter cells result, containing single chromosom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039320" y="5857920"/>
                <a:ext cx="14104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wo haploid cell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orm; chromosom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e still dou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-5400" y="61336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ophase I, cytokinesis, and meiosis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transmission of traits from one generation to the n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that offspring differ somewhat in appearance from parents and sib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592000" y="4238640"/>
            <a:ext cx="3947040" cy="2086200"/>
            <a:chOff x="2592000" y="4238640"/>
            <a:chExt cx="3947040" cy="2086200"/>
          </a:xfrm>
        </p:grpSpPr>
        <p:sp>
          <p:nvSpPr>
            <p:cNvPr id="176" name=""/>
            <p:cNvSpPr/>
            <p:nvPr/>
          </p:nvSpPr>
          <p:spPr>
            <a:xfrm>
              <a:off x="2592000" y="60192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3719520" y="4238640"/>
              <a:ext cx="2819520" cy="203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 Comparison of Mitosis and Meio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iosis and mitosis can be distinguished from mi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ree events in Meiosis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apsis and crossing o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ous chromosomes physically connect and exchange genet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trads on the metaphase 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metaphase I of meiosis, paired homologous chromosomes (tetrads) are positioned on the metaphase 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ion of homolog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aphase I of meiosis, homologous pairs move toward opposite poles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aphase II of meiosis, the sister chromatids sep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529920" y="1185840"/>
            <a:ext cx="7552800" cy="5380560"/>
            <a:chOff x="529920" y="1185840"/>
            <a:chExt cx="7552800" cy="5380560"/>
          </a:xfrm>
        </p:grpSpPr>
        <p:sp>
          <p:nvSpPr>
            <p:cNvPr id="443" name=""/>
            <p:cNvSpPr/>
            <p:nvPr/>
          </p:nvSpPr>
          <p:spPr>
            <a:xfrm>
              <a:off x="529920" y="62607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633320" y="1185840"/>
              <a:ext cx="6449400" cy="5297400"/>
              <a:chOff x="1633320" y="1185840"/>
              <a:chExt cx="6449400" cy="5297400"/>
            </a:xfrm>
          </p:grpSpPr>
          <p:pic>
            <p:nvPicPr>
              <p:cNvPr id="4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225440"/>
                <a:ext cx="637848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2905200" y="1185840"/>
                <a:ext cx="812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ITO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0080" y="1190520"/>
                <a:ext cx="822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EIO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1040" y="2089080"/>
                <a:ext cx="6498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pha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33320" y="2467440"/>
                <a:ext cx="1285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uplicated chromos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two sister chromatid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4640" y="2324160"/>
                <a:ext cx="71280" cy="95040"/>
              </a:xfrm>
              <a:custGeom>
                <a:avLst/>
                <a:gdLst>
                  <a:gd name="textAreaLeft" fmla="*/ 45720 w 71280"/>
                  <a:gd name="textAreaRight" fmla="*/ 71640 w 71280"/>
                  <a:gd name="textAreaTop" fmla="*/ 2160 h 95040"/>
                  <a:gd name="textAreaBottom" fmla="*/ 9288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2871360" y="2373480"/>
                <a:ext cx="40788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63440" y="2187720"/>
                <a:ext cx="796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romos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57360" y="2187720"/>
                <a:ext cx="796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romos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49640" y="1479960"/>
                <a:ext cx="1652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arent ce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before chromosome replicat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78440" y="1468800"/>
                <a:ext cx="924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iasma (site o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ossing over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59680" y="1773360"/>
                <a:ext cx="52200" cy="442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98640" y="1521000"/>
                <a:ext cx="6710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EIOSIS 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03320" y="2036880"/>
                <a:ext cx="7077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phase 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8207600">
                <a:off x="6441120" y="2235960"/>
                <a:ext cx="76320" cy="160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3960 h 160200"/>
                  <a:gd name="textAreaBottom" fmla="*/ 156240 h 16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974"/>
                    </a:lnTo>
                    <a:cubicBezTo>
                      <a:pt x="10800" y="10874"/>
                      <a:pt x="5400" y="11774"/>
                      <a:pt x="0" y="11774"/>
                    </a:cubicBezTo>
                    <a:cubicBezTo>
                      <a:pt x="5400" y="11774"/>
                      <a:pt x="10800" y="12674"/>
                      <a:pt x="10800" y="13574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45080" y="2367000"/>
                <a:ext cx="40500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800400" y="2350080"/>
                <a:ext cx="1282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etrad formed b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ynapsis of homologou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763640" y="3340080"/>
                <a:ext cx="711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etapha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952080" y="3180240"/>
                <a:ext cx="939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romoso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sitioned at 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aphase pl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06160" y="3178800"/>
                <a:ext cx="939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etra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sitioned at 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aphase pl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23040" y="3268800"/>
                <a:ext cx="7686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etaphase 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228800" y="4323240"/>
                <a:ext cx="747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naphase 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elophase 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198200" y="4758120"/>
                <a:ext cx="52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aploi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= 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22400" y="5429160"/>
                <a:ext cx="700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EIOSIS I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48000" y="4932720"/>
                <a:ext cx="6314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aught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ells o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eiosis 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07880" y="4259160"/>
                <a:ext cx="898200" cy="9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mologu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pa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ur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aphase I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st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romati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main togeth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29480" y="6026040"/>
                <a:ext cx="15094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aughter cells of meiosis I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15000" y="5827680"/>
                <a:ext cx="241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5440" y="5826240"/>
                <a:ext cx="241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23000" y="5818320"/>
                <a:ext cx="241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84880" y="5818320"/>
                <a:ext cx="241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57200" y="6240600"/>
                <a:ext cx="22744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ster chromatids separate during anaphase I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66880" y="4243680"/>
                <a:ext cx="689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napha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elopha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885480" y="4231080"/>
                <a:ext cx="975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ster chromati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parate dur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apha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730600" y="5346720"/>
                <a:ext cx="2980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55920" y="5346720"/>
                <a:ext cx="2980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921040" y="5475600"/>
                <a:ext cx="887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aughter cell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f mitosi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3000" y="2514600"/>
                <a:ext cx="4716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n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 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mparison of mitosis and mei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3.4: Genetic variation produced in sexual life cycles contributes to 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huffling of genetic material in mei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genetic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rigins of Genetic Variation Among Offspr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pecies that produce sexu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of chromosomes during meiosis and fertilization is responsible for most of the variation that arises each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ndependent Assortment of Chromoso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ologous pairs of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 randomly at metaphase I of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independent assort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ir of chromosomes sorts its maternal and paternal homologues into daughter cells independently of the other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91320" y="609552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3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941480" y="2160720"/>
            <a:ext cx="6140520" cy="4240440"/>
            <a:chOff x="1941480" y="2160720"/>
            <a:chExt cx="6140520" cy="424044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1941480" y="2160720"/>
              <a:ext cx="609372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475360" y="2187000"/>
              <a:ext cx="465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51000" y="2523600"/>
              <a:ext cx="1197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nal se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o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45600" y="2912400"/>
              <a:ext cx="1172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ernal se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o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0360" y="2790360"/>
              <a:ext cx="1078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sibility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95320" y="3427200"/>
              <a:ext cx="16815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wo equally probabl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rangements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omosomes 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aphase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60920" y="2790360"/>
              <a:ext cx="1078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sibility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24000" y="4746600"/>
              <a:ext cx="1070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aphase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19400" y="561276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ugh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200000">
              <a:off x="3124440" y="5621040"/>
              <a:ext cx="129240" cy="983160"/>
            </a:xfrm>
            <a:custGeom>
              <a:avLst/>
              <a:gdLst>
                <a:gd name="textAreaLeft" fmla="*/ 82800 w 129240"/>
                <a:gd name="textAreaRight" fmla="*/ 129600 w 129240"/>
                <a:gd name="textAreaTop" fmla="*/ 25560 h 983160"/>
                <a:gd name="textAreaBottom" fmla="*/ 957600 h 98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1"/>
                  </a:lnTo>
                  <a:cubicBezTo>
                    <a:pt x="10800" y="9751"/>
                    <a:pt x="5400" y="10651"/>
                    <a:pt x="0" y="10651"/>
                  </a:cubicBezTo>
                  <a:cubicBezTo>
                    <a:pt x="5400" y="10651"/>
                    <a:pt x="10800" y="11551"/>
                    <a:pt x="10800" y="1245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4340160" y="5621040"/>
              <a:ext cx="129240" cy="983160"/>
            </a:xfrm>
            <a:custGeom>
              <a:avLst/>
              <a:gdLst>
                <a:gd name="textAreaLeft" fmla="*/ 82800 w 129240"/>
                <a:gd name="textAreaRight" fmla="*/ 129600 w 129240"/>
                <a:gd name="textAreaTop" fmla="*/ 25560 h 983160"/>
                <a:gd name="textAreaBottom" fmla="*/ 957600 h 98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1"/>
                  </a:lnTo>
                  <a:cubicBezTo>
                    <a:pt x="10800" y="9751"/>
                    <a:pt x="5400" y="10651"/>
                    <a:pt x="0" y="10651"/>
                  </a:cubicBezTo>
                  <a:cubicBezTo>
                    <a:pt x="5400" y="10651"/>
                    <a:pt x="10800" y="11551"/>
                    <a:pt x="10800" y="1245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94160" y="6126120"/>
              <a:ext cx="117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atio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7800" y="6126120"/>
              <a:ext cx="117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atio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98080" y="6126120"/>
              <a:ext cx="117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atio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6220080" y="5621040"/>
              <a:ext cx="129240" cy="983160"/>
            </a:xfrm>
            <a:custGeom>
              <a:avLst/>
              <a:gdLst>
                <a:gd name="textAreaLeft" fmla="*/ 82800 w 129240"/>
                <a:gd name="textAreaRight" fmla="*/ 129600 w 129240"/>
                <a:gd name="textAreaTop" fmla="*/ 25560 h 983160"/>
                <a:gd name="textAreaBottom" fmla="*/ 957600 h 98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1"/>
                  </a:lnTo>
                  <a:cubicBezTo>
                    <a:pt x="10800" y="9751"/>
                    <a:pt x="5400" y="10651"/>
                    <a:pt x="0" y="10651"/>
                  </a:cubicBezTo>
                  <a:cubicBezTo>
                    <a:pt x="5400" y="10651"/>
                    <a:pt x="10800" y="11551"/>
                    <a:pt x="10800" y="1245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446240" y="5626440"/>
              <a:ext cx="129600" cy="983160"/>
            </a:xfrm>
            <a:custGeom>
              <a:avLst/>
              <a:gdLst>
                <a:gd name="textAreaLeft" fmla="*/ 82800 w 129600"/>
                <a:gd name="textAreaRight" fmla="*/ 129960 w 129600"/>
                <a:gd name="textAreaTop" fmla="*/ 25560 h 983160"/>
                <a:gd name="textAreaBottom" fmla="*/ 957600 h 98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1"/>
                  </a:lnTo>
                  <a:cubicBezTo>
                    <a:pt x="10800" y="9751"/>
                    <a:pt x="5400" y="10651"/>
                    <a:pt x="0" y="10651"/>
                  </a:cubicBezTo>
                  <a:cubicBezTo>
                    <a:pt x="5400" y="10651"/>
                    <a:pt x="10800" y="11551"/>
                    <a:pt x="10800" y="1245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10920" y="6126120"/>
              <a:ext cx="117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ation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Crossing Ov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ossing o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recombinant chromosomes that carry genes derived from two different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901160" y="1954080"/>
            <a:ext cx="4347360" cy="4586760"/>
            <a:chOff x="1901160" y="1954080"/>
            <a:chExt cx="4347360" cy="4586760"/>
          </a:xfrm>
        </p:grpSpPr>
        <p:sp>
          <p:nvSpPr>
            <p:cNvPr id="515" name=""/>
            <p:cNvSpPr/>
            <p:nvPr/>
          </p:nvSpPr>
          <p:spPr>
            <a:xfrm>
              <a:off x="1901160" y="61974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6" name="" descr=""/>
            <p:cNvPicPr/>
            <p:nvPr/>
          </p:nvPicPr>
          <p:blipFill>
            <a:blip r:embed="rId1"/>
            <a:stretch/>
          </p:blipFill>
          <p:spPr>
            <a:xfrm>
              <a:off x="3800520" y="2217600"/>
              <a:ext cx="2448000" cy="39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064320" y="1954080"/>
              <a:ext cx="796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phase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meio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49720" y="1954080"/>
              <a:ext cx="803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ns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ati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4747680" y="2146320"/>
              <a:ext cx="35244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4846680" y="2155680"/>
              <a:ext cx="24912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134600">
              <a:off x="4725720" y="2617920"/>
              <a:ext cx="77760" cy="249120"/>
            </a:xfrm>
            <a:custGeom>
              <a:avLst/>
              <a:gdLst>
                <a:gd name="textAreaLeft" fmla="*/ 49680 w 77760"/>
                <a:gd name="textAreaRight" fmla="*/ 78120 w 77760"/>
                <a:gd name="textAreaTop" fmla="*/ 6480 h 249120"/>
                <a:gd name="textAreaBottom" fmla="*/ 242640 h 24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465800" y="2773440"/>
              <a:ext cx="31104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87000" y="2773440"/>
              <a:ext cx="550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tr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92920" y="3095640"/>
              <a:ext cx="7185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asma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te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os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03840" y="3230640"/>
              <a:ext cx="37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714640" y="3098880"/>
              <a:ext cx="28260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53520" y="3686040"/>
              <a:ext cx="87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aphase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54960" y="466884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aphase 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39200" y="539748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ugh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98480" y="6143760"/>
              <a:ext cx="980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mbin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59400" y="6068880"/>
              <a:ext cx="230040" cy="1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772160" y="6068880"/>
              <a:ext cx="242640" cy="16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cientific study of heredity and hereditary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andom Ferti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usion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produce a zygote with any of about 64 trillion diploid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olutionary Significance of Genetic Variation Within 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var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aw material for evolution by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original source of genetic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new combinations of variant genes, adding more genetic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3.1: Offspring acquire genes from parents by inheriting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heritance of Ge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units of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gment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gene in an organism’s 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specific locus on a certain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inher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et of chromosomes from our mother and one set from our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mparison of Asexual and Sexual Reproduction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arent produces genetically identical offspring by 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58640" y="2481120"/>
            <a:ext cx="3495960" cy="3995280"/>
            <a:chOff x="2258640" y="2481120"/>
            <a:chExt cx="3495960" cy="3995280"/>
          </a:xfrm>
        </p:grpSpPr>
        <p:sp>
          <p:nvSpPr>
            <p:cNvPr id="189" name=""/>
            <p:cNvSpPr/>
            <p:nvPr/>
          </p:nvSpPr>
          <p:spPr>
            <a:xfrm>
              <a:off x="2258640" y="61671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1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505320" y="2481120"/>
              <a:ext cx="2249280" cy="3995280"/>
              <a:chOff x="3505320" y="2481120"/>
              <a:chExt cx="2249280" cy="39952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3505320" y="2481120"/>
                <a:ext cx="2249280" cy="3776400"/>
                <a:chOff x="3505320" y="2481120"/>
                <a:chExt cx="2249280" cy="3776400"/>
              </a:xfrm>
            </p:grpSpPr>
            <p:pic>
              <p:nvPicPr>
                <p:cNvPr id="19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05320" y="2481120"/>
                  <a:ext cx="2205000" cy="37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"/>
                <p:cNvSpPr/>
                <p:nvPr/>
              </p:nvSpPr>
              <p:spPr>
                <a:xfrm>
                  <a:off x="4938480" y="4549320"/>
                  <a:ext cx="816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Par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521520" y="4884120"/>
                  <a:ext cx="5781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Bu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17960" y="4125600"/>
                  <a:ext cx="487440" cy="487440"/>
                </a:xfrm>
                <a:prstGeom prst="line">
                  <a:avLst/>
                </a:prstGeom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3820680" y="4613040"/>
                  <a:ext cx="243720" cy="304200"/>
                </a:xfrm>
                <a:prstGeom prst="line">
                  <a:avLst/>
                </a:prstGeom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4784760" y="6140520"/>
                <a:ext cx="918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5 mm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arents give rise to offspring that have unique combinations of genes inherited from the two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briant</cp:lastModifiedBy>
  <cp:lastPrinted>2004-11-22T08:50:21Z</cp:lastPrinted>
  <dcterms:modified xsi:type="dcterms:W3CDTF">2004-12-11T00:33:03Z</dcterms:modified>
  <cp:revision>654</cp:revision>
  <dc:subject/>
  <dc:title>video slide</dc:title>
</cp:coreProperties>
</file>